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03C-2B5B-433B-9575-A0BDD146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911-4E12-43E8-83E0-944C455F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279-EA84-4BBC-8C14-F1A670B2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DB6-F9AB-4C17-97B0-46547EC3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5DB-8140-4C93-97D6-A0BEA18D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B08-3CA2-4858-8362-1293E70A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570-7C69-4746-A283-3EF0CA43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3D6-40DC-4BC8-A102-E7EF3DC6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69F-2405-406A-91A3-E91EECCB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E70-9FE2-46B1-B46B-B84929A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27B-2DFD-49F5-86D2-6D4E71C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2DE-C045-46D3-BB67-6188D07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A078-098D-4E07-B1AC-A6B7FC8885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814920" y="1628640"/>
            <a:ext cx="757080" cy="755640"/>
            <a:chOff x="381492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81492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4740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16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Oliver Mochmann</cp:lastModifiedBy>
  <dcterms:modified xsi:type="dcterms:W3CDTF">2005-07-08T16:35:00Z</dcterms:modified>
  <cp:revision>17</cp:revision>
  <dc:subject/>
  <dc:title>Folie 1</dc:title>
</cp:coreProperties>
</file>